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DBDB9C-B629-42F5-B085-0A1AC623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'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'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’s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e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’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0FB-F3F9-42B3-9549-E03A9B35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C07-0B15-4D0E-B20D-2E09DACB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C58-A297-43DD-842B-88C568F3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B84-A69B-4DBB-B608-A952DE28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120-84D3-421B-928B-63B6C29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AC0-4490-41C4-BD55-A08E3AEB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5FC-914F-4D03-8059-284547A6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D4B-7122-4404-8883-B7BF6E6F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154-7958-4C9D-91C4-E9FEFDA8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001-4F84-4C70-BA17-E16C85E8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216-755B-4385-BD0B-C403D481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F76-4BE7-43DD-909D-7CAEA330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D85C-8317-4A35-B98F-4553B2FC2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41911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the  Business Intelligence (BI) Road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523880"/>
            <a:ext cx="5105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el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ebcast Series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79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rch 10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5791320"/>
            <a:ext cx="43434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A recording of this Webcast can be foun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https://msevents.webex.com/microsofttrain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WWW.Symcorp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ustomer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17524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Integration and Data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920" y="2736720"/>
            <a:ext cx="8229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usiness Knowle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or 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erformance Indicators (KPI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Analy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ing &amp; Data 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tail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_s1029"/>
          <p:cNvSpPr/>
          <p:nvPr/>
        </p:nvSpPr>
        <p:spPr>
          <a:xfrm>
            <a:off x="7543800" y="37339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53320" y="4419720"/>
            <a:ext cx="1181160" cy="1218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791320"/>
            <a:ext cx="5715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4495b"/>
              </a:gs>
              <a:gs pos="50000">
                <a:srgbClr val="66ccff"/>
              </a:gs>
              <a:gs pos="100000">
                <a:srgbClr val="2449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know your customer’s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Vertical or Horizon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BI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: Performance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: Qualit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 Chur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BI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Tech: Booking/Billing/Back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: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: Fraud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791320"/>
            <a:ext cx="533412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4495b"/>
              </a:gs>
              <a:gs pos="50000">
                <a:srgbClr val="66ccff"/>
              </a:gs>
              <a:gs pos="100000">
                <a:srgbClr val="2449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know your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_s1029"/>
          <p:cNvSpPr/>
          <p:nvPr/>
        </p:nvSpPr>
        <p:spPr>
          <a:xfrm>
            <a:off x="7543800" y="37339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53320" y="4419720"/>
            <a:ext cx="1181160" cy="1218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ey performance Indicators (KP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he performance of the "critical element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s data into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ues alone meaning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Is put data in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K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industry (Retail/Ba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function (Finance/S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_s1029"/>
          <p:cNvSpPr/>
          <p:nvPr/>
        </p:nvSpPr>
        <p:spPr>
          <a:xfrm>
            <a:off x="7543800" y="37339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53320" y="4419720"/>
            <a:ext cx="1181160" cy="1218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0100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791320"/>
            <a:ext cx="533412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4495b"/>
              </a:gs>
              <a:gs pos="50000">
                <a:srgbClr val="66ccff"/>
              </a:gs>
              <a:gs pos="100000">
                <a:srgbClr val="2449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know you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uided Analy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alytical 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users along a path to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s data analysis and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s common best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s the barrier to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791320"/>
            <a:ext cx="533412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4495b"/>
              </a:gs>
              <a:gs pos="50000">
                <a:srgbClr val="66ccff"/>
              </a:gs>
              <a:gs pos="100000">
                <a:srgbClr val="2449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know you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_s1029"/>
          <p:cNvSpPr/>
          <p:nvPr/>
        </p:nvSpPr>
        <p:spPr>
          <a:xfrm>
            <a:off x="7543800" y="37339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53320" y="4419720"/>
            <a:ext cx="1181160" cy="1218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usiness Knowledge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ping Logistic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expertise to create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rs to collect KPIs in a dash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use of stop-lighting and gau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use of interactive data nav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echnology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ccess and St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ions and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ing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_s1029"/>
          <p:cNvSpPr/>
          <p:nvPr/>
        </p:nvSpPr>
        <p:spPr>
          <a:xfrm>
            <a:off x="7710480" y="5867280"/>
            <a:ext cx="14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_s1032"/>
          <p:cNvSpPr/>
          <p:nvPr/>
        </p:nvSpPr>
        <p:spPr>
          <a:xfrm>
            <a:off x="7772400" y="4648320"/>
            <a:ext cx="1181160" cy="1218960"/>
          </a:xfrm>
          <a:prstGeom prst="ellipse">
            <a:avLst/>
          </a:prstGeom>
          <a:solidFill>
            <a:srgbClr val="ccffcc">
              <a:alpha val="50000"/>
            </a:srgbClr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echnology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a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_s1029"/>
          <p:cNvSpPr/>
          <p:nvPr/>
        </p:nvSpPr>
        <p:spPr>
          <a:xfrm>
            <a:off x="7710480" y="5867280"/>
            <a:ext cx="14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_s1032"/>
          <p:cNvSpPr/>
          <p:nvPr/>
        </p:nvSpPr>
        <p:spPr>
          <a:xfrm>
            <a:off x="7772400" y="4648320"/>
            <a:ext cx="1181160" cy="1218960"/>
          </a:xfrm>
          <a:prstGeom prst="ellipse">
            <a:avLst/>
          </a:prstGeom>
          <a:solidFill>
            <a:srgbClr val="ccffcc">
              <a:alpha val="50000"/>
            </a:srgbClr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echnology 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0"/>
            <a:ext cx="2381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eg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4419720"/>
            <a:ext cx="238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Based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du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43200" y="2133720"/>
            <a:ext cx="4822560" cy="3933720"/>
            <a:chOff x="2743200" y="2133720"/>
            <a:chExt cx="4822560" cy="39337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3558960" y="2156040"/>
              <a:ext cx="346392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5256000" y="3048120"/>
              <a:ext cx="17287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3625560" y="3049560"/>
              <a:ext cx="163044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2743200" y="2133720"/>
              <a:ext cx="811080" cy="391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3558960" y="4354560"/>
              <a:ext cx="278460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6343560" y="4351320"/>
              <a:ext cx="565200" cy="16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289920" y="4351320"/>
              <a:ext cx="646200" cy="15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nagement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2796480" y="2739960"/>
              <a:ext cx="646200" cy="27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 Too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sual Studio .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0760" y="3287520"/>
              <a:ext cx="1763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68120" indent="-16812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c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W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 Analyz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97320" y="3286080"/>
              <a:ext cx="182556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68120" indent="-16812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55920" y="2443320"/>
              <a:ext cx="33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spcBef>
                  <a:spcPts val="1125"/>
                </a:spcBef>
                <a:buClr>
                  <a:srgbClr val="3333cc"/>
                </a:buClr>
                <a:buFont typeface="Franklin Gothic Boo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Franklin Gothic Book"/>
                </a:rPr>
                <a:t>Business Scoreca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36840" y="264960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spcBef>
                  <a:spcPts val="1125"/>
                </a:spcBef>
                <a:buClr>
                  <a:srgbClr val="3333cc"/>
                </a:buClr>
                <a:buFont typeface="Franklin Gothic Boo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Franklin Gothic Book"/>
                </a:rPr>
                <a:t>Excel Repor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30400" y="2245680"/>
              <a:ext cx="2854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68120" indent="-16812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ution Acceler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60760" y="4397400"/>
              <a:ext cx="2781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L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Arial"/>
                </a:rPr>
                <a:t>Relational Eng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8"/>
            <a:stretch/>
          </p:blipFill>
          <p:spPr>
            <a:xfrm>
              <a:off x="3625560" y="4834080"/>
              <a:ext cx="264960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9"/>
            <a:stretch/>
          </p:blipFill>
          <p:spPr>
            <a:xfrm>
              <a:off x="3625560" y="5383440"/>
              <a:ext cx="264960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560760" y="4905360"/>
              <a:ext cx="278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port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27360" y="5381640"/>
              <a:ext cx="2782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alysis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Arial"/>
                </a:rPr>
                <a:t>OLAP &amp; Data M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_s1029"/>
          <p:cNvSpPr/>
          <p:nvPr/>
        </p:nvSpPr>
        <p:spPr>
          <a:xfrm>
            <a:off x="7710480" y="5867280"/>
            <a:ext cx="14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_s1032"/>
          <p:cNvSpPr/>
          <p:nvPr/>
        </p:nvSpPr>
        <p:spPr>
          <a:xfrm>
            <a:off x="7772400" y="4648320"/>
            <a:ext cx="1181160" cy="1218960"/>
          </a:xfrm>
          <a:prstGeom prst="ellipse">
            <a:avLst/>
          </a:prstGeom>
          <a:solidFill>
            <a:srgbClr val="ccffcc">
              <a:alpha val="50000"/>
            </a:srgbClr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al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_s1029"/>
          <p:cNvSpPr/>
          <p:nvPr/>
        </p:nvSpPr>
        <p:spPr>
          <a:xfrm>
            <a:off x="7710480" y="5867280"/>
            <a:ext cx="14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_s1032"/>
          <p:cNvSpPr/>
          <p:nvPr/>
        </p:nvSpPr>
        <p:spPr>
          <a:xfrm>
            <a:off x="7772400" y="4648320"/>
            <a:ext cx="1181160" cy="1218960"/>
          </a:xfrm>
          <a:prstGeom prst="ellipse">
            <a:avLst/>
          </a:prstGeom>
          <a:solidFill>
            <a:srgbClr val="ccffcc">
              <a:alpha val="50000"/>
            </a:srgbClr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1676520"/>
            <a:ext cx="4038480" cy="25146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4495b"/>
              </a:gs>
              <a:gs pos="50000">
                <a:srgbClr val="66ccff"/>
              </a:gs>
              <a:gs pos="100000">
                <a:srgbClr val="2449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st compreh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ed server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685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es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7524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cast One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59436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&amp;A – BI Webcast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1523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114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205740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hael Ac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47242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 B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 Nim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2096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he BI Application 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666880"/>
            <a:ext cx="39625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ustom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usiness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icrosoft’s BI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echnology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ent &amp; Development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Web Components (OW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 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_s1029"/>
          <p:cNvSpPr/>
          <p:nvPr/>
        </p:nvSpPr>
        <p:spPr>
          <a:xfrm>
            <a:off x="7620120" y="5972040"/>
            <a:ext cx="14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_s1032"/>
          <p:cNvSpPr/>
          <p:nvPr/>
        </p:nvSpPr>
        <p:spPr>
          <a:xfrm>
            <a:off x="7772400" y="4800600"/>
            <a:ext cx="1181160" cy="1219320"/>
          </a:xfrm>
          <a:prstGeom prst="ellipse">
            <a:avLst/>
          </a:prstGeom>
          <a:solidFill>
            <a:srgbClr val="ccffcc">
              <a:alpha val="50000"/>
            </a:srgbClr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2438280"/>
            <a:ext cx="4419720" cy="2590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4495b"/>
              </a:gs>
              <a:gs pos="50000">
                <a:srgbClr val="66ccff"/>
              </a:gs>
              <a:gs pos="100000">
                <a:srgbClr val="2449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are comfortabl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ers are productiv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duct Cap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57200" y="2048040"/>
            <a:ext cx="83818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echnology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handising Tracking &amp; Au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nalysis Service to create aggregates and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DTS to transfer operational DB to reporting DB to C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Reporting Services to push reports to field and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cel and OWC to provide analytical access for field and corporat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I Technology Vend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 Tool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600200"/>
            <a:ext cx="3886200" cy="3505320"/>
          </a:xfrm>
          <a:prstGeom prst="wedgeRoundRectCallout">
            <a:avLst>
              <a:gd name="adj1" fmla="val -121648"/>
              <a:gd name="adj2" fmla="val -34101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est known for their R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dded BI server capabilities through accusation or part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ot known for their cli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I Technology Vend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 Tool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133720"/>
            <a:ext cx="3886200" cy="2666880"/>
          </a:xfrm>
          <a:prstGeom prst="wedgeRoundRectCallout">
            <a:avLst>
              <a:gd name="adj1" fmla="val -80472"/>
              <a:gd name="adj2" fmla="val -26250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ave a complete set of BI server and cli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 not have a R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I Technology Vend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 Tool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828800"/>
            <a:ext cx="3886200" cy="2971800"/>
          </a:xfrm>
          <a:prstGeom prst="wedgeRoundRectCallout">
            <a:avLst>
              <a:gd name="adj1" fmla="val -100083"/>
              <a:gd name="adj2" fmla="val -3046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vide a strong BI only client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 not have a BI server or R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I Technology Vend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 Tool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1905120"/>
            <a:ext cx="3886200" cy="3047760"/>
          </a:xfrm>
          <a:prstGeom prst="wedgeRoundRectCallout">
            <a:avLst>
              <a:gd name="adj1" fmla="val -64787"/>
              <a:gd name="adj2" fmla="val 15782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vide a development environment to “build your ow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ffer no built in BI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duct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523880"/>
            <a:ext cx="8382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2280" y="2233440"/>
            <a:ext cx="876312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I Road Map Check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657600"/>
            <a:ext cx="1676520" cy="1676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4419720"/>
            <a:ext cx="167652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_s1029"/>
          <p:cNvSpPr/>
          <p:nvPr/>
        </p:nvSpPr>
        <p:spPr>
          <a:xfrm>
            <a:off x="5486400" y="2971800"/>
            <a:ext cx="14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_s1029"/>
          <p:cNvSpPr/>
          <p:nvPr/>
        </p:nvSpPr>
        <p:spPr>
          <a:xfrm>
            <a:off x="3962520" y="6019920"/>
            <a:ext cx="143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duce Risk / Increase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 Application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560920" y="4344840"/>
            <a:ext cx="2744640" cy="1462320"/>
            <a:chOff x="5560920" y="4344840"/>
            <a:chExt cx="2744640" cy="1462320"/>
          </a:xfrm>
        </p:grpSpPr>
        <p:sp>
          <p:nvSpPr>
            <p:cNvPr id="196" name="_s362502"/>
            <p:cNvSpPr/>
            <p:nvPr/>
          </p:nvSpPr>
          <p:spPr>
            <a:xfrm>
              <a:off x="6562440" y="4603680"/>
              <a:ext cx="743040" cy="74304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_s362503"/>
            <p:cNvSpPr/>
            <p:nvPr/>
          </p:nvSpPr>
          <p:spPr>
            <a:xfrm>
              <a:off x="6562440" y="4344840"/>
              <a:ext cx="7430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usiness K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_s362504"/>
            <p:cNvSpPr/>
            <p:nvPr/>
          </p:nvSpPr>
          <p:spPr>
            <a:xfrm>
              <a:off x="6806880" y="5027760"/>
              <a:ext cx="743040" cy="7426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_s362505"/>
            <p:cNvSpPr/>
            <p:nvPr/>
          </p:nvSpPr>
          <p:spPr>
            <a:xfrm>
              <a:off x="7562520" y="5621400"/>
              <a:ext cx="7430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_s362506"/>
            <p:cNvSpPr/>
            <p:nvPr/>
          </p:nvSpPr>
          <p:spPr>
            <a:xfrm>
              <a:off x="6316560" y="5025960"/>
              <a:ext cx="743040" cy="74304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_s362507"/>
            <p:cNvSpPr/>
            <p:nvPr/>
          </p:nvSpPr>
          <p:spPr>
            <a:xfrm>
              <a:off x="5560920" y="5619600"/>
              <a:ext cx="7430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6280" y="5010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562720" y="3124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ymmetry www.Symcor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324480" y="1447920"/>
          <a:ext cx="1586160" cy="178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1447920"/>
                    <a:ext cx="158616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905120"/>
            <a:ext cx="5029200" cy="43434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6094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ebcast One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19810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ing BI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ing the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8120"/>
            <a:ext cx="3733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I is a $4 Billion Software Market – I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I could have growth of 20% -M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ftware and Services is a $7 billion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I Brings New Revenue and Market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51460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users are moving away from customized solutions in favor of packaged 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5105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ey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Webcast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4267080"/>
            <a:ext cx="1676520" cy="1676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_s1031"/>
          <p:cNvSpPr/>
          <p:nvPr/>
        </p:nvSpPr>
        <p:spPr>
          <a:xfrm>
            <a:off x="6553080" y="4876920"/>
            <a:ext cx="143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1143000"/>
            <a:ext cx="1981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03/17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2:00-1:00 PM P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486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Regist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ttp://www.msusapartnerreadiness.com/webcast/webcasts.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6765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usiness Intelligence Product Architecture for ISVs (U.S. Only)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is 90-minute Web seminar will give you a technical product overview to help your organization incorporate Microsoft business intelligence into your produc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You will learn how to: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duce your product development cycle with the DSO/XML and DTS/XML Conversion Utili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dd velocity to your development effort by providing a best practices framework for setting up your database with the SQL Server Accelerato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Jump-start your development efforts with available code samples to keep you ahead of the competi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ring the OLAP cubes right into your business applications with the Microsoft Visual Studio® .NET Web Control, allowing you to view, explore, and summarize data through your brows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62120" y="8380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act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2057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447840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n@symcorp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510 524-0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409716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Nimn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1523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237636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ge@microsof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3564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23018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View a recording  of this Web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91120" y="2911320"/>
            <a:ext cx="5638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https://msevents.webex.com/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icrosofttrainin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ww.symcorp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27576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hael Ac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31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osta@microsof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425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Register for Web Cast Thre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ttp://www.msusapartnerreadiness.com/webcast/webcasts.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ebcast One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dd BI to your product 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rke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644480" y="2252520"/>
            <a:ext cx="5778720" cy="3378240"/>
            <a:chOff x="1644480" y="2252520"/>
            <a:chExt cx="5778720" cy="3378240"/>
          </a:xfrm>
        </p:grpSpPr>
        <p:sp>
          <p:nvSpPr>
            <p:cNvPr id="72" name="_s202758"/>
            <p:cNvSpPr/>
            <p:nvPr/>
          </p:nvSpPr>
          <p:spPr>
            <a:xfrm>
              <a:off x="3676680" y="2852640"/>
              <a:ext cx="1714320" cy="171468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202759"/>
            <p:cNvSpPr/>
            <p:nvPr/>
          </p:nvSpPr>
          <p:spPr>
            <a:xfrm>
              <a:off x="3817800" y="2252520"/>
              <a:ext cx="143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usiness K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02760"/>
            <p:cNvSpPr/>
            <p:nvPr/>
          </p:nvSpPr>
          <p:spPr>
            <a:xfrm>
              <a:off x="4240080" y="3830760"/>
              <a:ext cx="1714680" cy="17143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02761"/>
            <p:cNvSpPr/>
            <p:nvPr/>
          </p:nvSpPr>
          <p:spPr>
            <a:xfrm>
              <a:off x="5989680" y="5202360"/>
              <a:ext cx="14335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202762"/>
            <p:cNvSpPr/>
            <p:nvPr/>
          </p:nvSpPr>
          <p:spPr>
            <a:xfrm>
              <a:off x="3111480" y="3828960"/>
              <a:ext cx="1714680" cy="171468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02763"/>
            <p:cNvSpPr/>
            <p:nvPr/>
          </p:nvSpPr>
          <p:spPr>
            <a:xfrm>
              <a:off x="1644480" y="5202360"/>
              <a:ext cx="14335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86160" y="4114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I is at the Inters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arting the BI Road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he End User, Buyer, Champ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meet their nee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Consid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BI Offe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ustomer Su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hboard/Cock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d and condense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Analy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tical 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aud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-H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ce and 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with the desk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29080" y="144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ustomer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1905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 BI Application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2971800"/>
            <a:ext cx="8124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ustomer Su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integ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-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ed as a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9080" y="144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Product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20:58:43Z</dcterms:created>
  <dc:creator>administrator</dc:creator>
  <dc:description/>
  <dc:language>en-US</dc:language>
  <cp:lastModifiedBy>Chris Large</cp:lastModifiedBy>
  <dcterms:modified xsi:type="dcterms:W3CDTF">2004-03-09T21:20:38Z</dcterms:modified>
  <cp:revision>128</cp:revision>
  <dc:subject/>
  <dc:title>PowerPoint Presentation</dc:title>
</cp:coreProperties>
</file>