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8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40.jpeg" ContentType="image/jpeg"/>
  <Override PartName="/ppt/media/image55.png" ContentType="image/png"/>
  <Override PartName="/ppt/media/image51.png" ContentType="image/png"/>
  <Override PartName="/ppt/media/image50.png" ContentType="image/png"/>
  <Override PartName="/ppt/media/image47.wmf" ContentType="image/x-wmf"/>
  <Override PartName="/ppt/media/image46.png" ContentType="image/png"/>
  <Override PartName="/ppt/media/image45.png" ContentType="image/png"/>
  <Override PartName="/ppt/media/image54.wmf" ContentType="image/x-wmf"/>
  <Override PartName="/ppt/media/image58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35.png" ContentType="image/png"/>
  <Override PartName="/ppt/media/image38.jpeg" ContentType="image/jpeg"/>
  <Override PartName="/ppt/media/image43.jpeg" ContentType="image/jpeg"/>
  <Override PartName="/ppt/media/image28.png" ContentType="image/png"/>
  <Override PartName="/ppt/media/image49.jpeg" ContentType="image/jpeg"/>
  <Override PartName="/ppt/media/image32.png" ContentType="image/png"/>
  <Override PartName="/ppt/media/image14.png" ContentType="image/png"/>
  <Override PartName="/ppt/media/image2.png" ContentType="image/png"/>
  <Override PartName="/ppt/media/image67.png" ContentType="image/png"/>
  <Override PartName="/ppt/media/image30.png" ContentType="image/png"/>
  <Override PartName="/ppt/media/image65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57.png" ContentType="image/png"/>
  <Override PartName="/ppt/media/image20.png" ContentType="image/png"/>
  <Override PartName="/ppt/media/image60.png" ContentType="image/png"/>
  <Override PartName="/ppt/media/image23.png" ContentType="image/png"/>
  <Override PartName="/ppt/media/image15.png" ContentType="image/png"/>
  <Override PartName="/ppt/media/image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42.jpeg" ContentType="image/jpe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52.wmf" ContentType="image/x-wmf"/>
  <Override PartName="/ppt/media/image8.png" ContentType="image/png"/>
  <Override PartName="/ppt/media/image5.png" ContentType="image/png"/>
  <Override PartName="/ppt/media/image39.jpeg" ContentType="image/jpeg"/>
  <Override PartName="/ppt/media/image17.png" ContentType="image/png"/>
  <Override PartName="/ppt/media/image13.png" ContentType="image/png"/>
  <Override PartName="/ppt/media/image53.wmf" ContentType="image/x-wmf"/>
  <Override PartName="/ppt/media/image9.png" ContentType="image/png"/>
  <Override PartName="/ppt/media/image31.png" ContentType="image/png"/>
  <Override PartName="/ppt/media/image33.wmf" ContentType="image/x-wmf"/>
  <Override PartName="/ppt/media/image66.png" ContentType="image/png"/>
  <Override PartName="/ppt/media/image41.jpeg" ContentType="image/jpeg"/>
  <Override PartName="/ppt/media/image4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558543A-9374-409C-B1C7-5FDD359882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ice: What will your strategy be that will take you forward.  Not just your initial release but will the design have “leg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hive: Does data pile up or  roll of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mental – Refresh vs. Incremental   First load vs on-going    Deleteions: What are the 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rogate keys : Slowing changing dims    do not use the data/time stamp and calendar functions  do not forget future time peri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nsing: Do it in pipe or in staging area      unknown m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ke’s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ke’s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ke’s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ke’s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ke’s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ke’s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ke’s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ke’s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is’s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6111-03A4-4A97-8492-91FB573BA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BB5B-CCE2-41D4-A760-D027FC21A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B6FD-C5E8-4DA0-8827-2BB715E64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02C5-503B-462A-8912-81BD89AC0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722F-D3CA-4A94-8A59-8F0F6297D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A9DB-F597-4DAB-A696-95B536FF2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9928-89E9-41EF-8A83-0E9BE944C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7BA6-F916-4F30-A9A6-E2B91A931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EDBA-49CF-455B-AB3D-E04C30536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66AC-F5CA-4737-93B7-CDED6A74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5745-AE43-45E4-99AF-44822E12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C6AD-3EA1-40DC-BC5B-EDEF303A4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73EE7-ADB3-423D-ACA3-6F2AD272E8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msevents.webex.com/microsofttraining/%0B%0BWWW.Symcorp.com/ISV/MS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3.wmf"/><Relationship Id="rId6" Type="http://schemas.openxmlformats.org/officeDocument/2006/relationships/oleObject" Target="../embeddings/oleObject1.bin"/><Relationship Id="rId7" Type="http://schemas.openxmlformats.org/officeDocument/2006/relationships/image" Target="../media/image34.png"/><Relationship Id="rId8" Type="http://schemas.openxmlformats.org/officeDocument/2006/relationships/oleObject" Target="../embeddings/oleObject2.bin"/><Relationship Id="rId9" Type="http://schemas.openxmlformats.org/officeDocument/2006/relationships/image" Target="../media/image35.png"/><Relationship Id="rId10" Type="http://schemas.openxmlformats.org/officeDocument/2006/relationships/image" Target="../media/image36.png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14.png"/><Relationship Id="rId13" Type="http://schemas.openxmlformats.org/officeDocument/2006/relationships/image" Target="../media/image37.png"/><Relationship Id="rId1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wmf"/><Relationship Id="rId3" Type="http://schemas.openxmlformats.org/officeDocument/2006/relationships/image" Target="../media/image47.wmf"/><Relationship Id="rId4" Type="http://schemas.openxmlformats.org/officeDocument/2006/relationships/image" Target="../media/image47.wmf"/><Relationship Id="rId5" Type="http://schemas.openxmlformats.org/officeDocument/2006/relationships/image" Target="../media/image47.wmf"/><Relationship Id="rId6" Type="http://schemas.openxmlformats.org/officeDocument/2006/relationships/image" Target="../media/image47.wmf"/><Relationship Id="rId7" Type="http://schemas.openxmlformats.org/officeDocument/2006/relationships/image" Target="../media/image47.wmf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wmf"/><Relationship Id="rId3" Type="http://schemas.openxmlformats.org/officeDocument/2006/relationships/image" Target="../media/image53.wmf"/><Relationship Id="rId4" Type="http://schemas.openxmlformats.org/officeDocument/2006/relationships/image" Target="../media/image54.wmf"/><Relationship Id="rId5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hyperlink" Target="http://www.microsoft.com/solutions/bi/default.asp" TargetMode="External"/><Relationship Id="rId5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5.png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7.png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1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image" Target="../media/image21.png"/><Relationship Id="rId16" Type="http://schemas.openxmlformats.org/officeDocument/2006/relationships/image" Target="../media/image15.png"/><Relationship Id="rId17" Type="http://schemas.openxmlformats.org/officeDocument/2006/relationships/image" Target="../media/image15.png"/><Relationship Id="rId18" Type="http://schemas.openxmlformats.org/officeDocument/2006/relationships/image" Target="../media/image11.png"/><Relationship Id="rId19" Type="http://schemas.openxmlformats.org/officeDocument/2006/relationships/image" Target="../media/image12.png"/><Relationship Id="rId20" Type="http://schemas.openxmlformats.org/officeDocument/2006/relationships/image" Target="../media/image22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image" Target="../media/image10.png"/><Relationship Id="rId24" Type="http://schemas.openxmlformats.org/officeDocument/2006/relationships/image" Target="../media/image10.png"/><Relationship Id="rId25" Type="http://schemas.openxmlformats.org/officeDocument/2006/relationships/image" Target="../media/image10.png"/><Relationship Id="rId26" Type="http://schemas.openxmlformats.org/officeDocument/2006/relationships/image" Target="../media/image23.png"/><Relationship Id="rId27" Type="http://schemas.openxmlformats.org/officeDocument/2006/relationships/image" Target="../media/image10.png"/><Relationship Id="rId28" Type="http://schemas.openxmlformats.org/officeDocument/2006/relationships/image" Target="../media/image24.png"/><Relationship Id="rId29" Type="http://schemas.openxmlformats.org/officeDocument/2006/relationships/image" Target="../media/image25.png"/><Relationship Id="rId30" Type="http://schemas.openxmlformats.org/officeDocument/2006/relationships/image" Target="../media/image26.png"/><Relationship Id="rId31" Type="http://schemas.openxmlformats.org/officeDocument/2006/relationships/image" Target="../media/image12.png"/><Relationship Id="rId32" Type="http://schemas.openxmlformats.org/officeDocument/2006/relationships/image" Target="../media/image12.png"/><Relationship Id="rId33" Type="http://schemas.openxmlformats.org/officeDocument/2006/relationships/image" Target="../media/image12.png"/><Relationship Id="rId34" Type="http://schemas.openxmlformats.org/officeDocument/2006/relationships/image" Target="../media/image12.png"/><Relationship Id="rId35" Type="http://schemas.openxmlformats.org/officeDocument/2006/relationships/image" Target="../media/image27.png"/><Relationship Id="rId36" Type="http://schemas.openxmlformats.org/officeDocument/2006/relationships/image" Target="../media/image28.png"/><Relationship Id="rId37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943280" y="4191120"/>
            <a:ext cx="5257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siness Intellig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t Architecture for ISV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52480" y="1523880"/>
            <a:ext cx="563904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Welco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Webcast Series Thr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553080" y="57913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rch 17,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05120" y="5715000"/>
            <a:ext cx="43434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A recording of this Webcast can be foun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https://msevents.webex.com/microsofttraining/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_x000b_</a:t>
            </a:r>
            <a:br>
              <a:rPr sz="1200"/>
            </a:b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WWW.Symcorp.com/ISV/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Usage Based Optimizatio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2133720" y="1981080"/>
            <a:ext cx="5295960" cy="40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porting Service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ne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ad/Scalable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/Pull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lutely zero learning cu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ut altern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porting Service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Reporting Life-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ing/Management/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Source Var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E DB, ODBC, Oracle, and .NET provi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dimens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 Altern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/Excel/XML/PDF/TIFF/Web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h Formatting and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Reporting Services Architectur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5510160" y="1616040"/>
            <a:ext cx="1473120" cy="10447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438280" y="6095880"/>
            <a:ext cx="4419720" cy="5335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ranklin Gothic Book"/>
              </a:rPr>
              <a:t>SQL Server Catal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438280" y="4038480"/>
            <a:ext cx="4419720" cy="198144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ranklin Gothic Book"/>
              </a:rPr>
              <a:t>Report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438280" y="3505320"/>
            <a:ext cx="4419720" cy="45720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ranklin Gothic Book"/>
              </a:rPr>
              <a:t>XML Web Service 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00600" y="5486400"/>
            <a:ext cx="1905120" cy="45720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Scheduling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Deliv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238880" y="5562720"/>
            <a:ext cx="1905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Delivery Targ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(E-mail, SharePoint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Custo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7846920" y="4724280"/>
            <a:ext cx="476280" cy="6858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8170920" y="4876920"/>
            <a:ext cx="477720" cy="6858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7010280" y="4800600"/>
            <a:ext cx="685800" cy="380880"/>
          </a:xfrm>
          <a:prstGeom prst="leftRightArrow">
            <a:avLst>
              <a:gd name="adj1" fmla="val 50000"/>
              <a:gd name="adj2" fmla="val 35844"/>
            </a:avLst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162920" y="2819520"/>
            <a:ext cx="1904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Security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(NT, Passpor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Custo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5"/>
          <a:stretch/>
        </p:blipFill>
        <p:spPr>
          <a:xfrm>
            <a:off x="7840800" y="3581280"/>
            <a:ext cx="769680" cy="9144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7010280" y="4114800"/>
            <a:ext cx="685800" cy="380880"/>
          </a:xfrm>
          <a:prstGeom prst="leftRightArrow">
            <a:avLst>
              <a:gd name="adj1" fmla="val 50000"/>
              <a:gd name="adj2" fmla="val 35844"/>
            </a:avLst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800600" y="4952880"/>
            <a:ext cx="1905120" cy="45720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Secu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590920" y="4952880"/>
            <a:ext cx="1904760" cy="45720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Data Proces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752480" y="4800600"/>
            <a:ext cx="685800" cy="380880"/>
          </a:xfrm>
          <a:prstGeom prst="leftRightArrow">
            <a:avLst>
              <a:gd name="adj1" fmla="val 50000"/>
              <a:gd name="adj2" fmla="val 35844"/>
            </a:avLst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04920" y="3505320"/>
            <a:ext cx="1752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Data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(SQL, OLE DB, XML/A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ODBC, Oracle, Custo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066680" y="4419720"/>
            <a:ext cx="533520" cy="6094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" y="4343400"/>
            <a:ext cx="533520" cy="609480"/>
          </a:xfrm>
          <a:prstGeom prst="can">
            <a:avLst>
              <a:gd name="adj" fmla="val 18546"/>
            </a:avLst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590920" y="5486400"/>
            <a:ext cx="1904760" cy="45720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Rende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52480" y="5410080"/>
            <a:ext cx="685800" cy="381240"/>
          </a:xfrm>
          <a:prstGeom prst="leftRightArrow">
            <a:avLst>
              <a:gd name="adj1" fmla="val 50000"/>
              <a:gd name="adj2" fmla="val 35811"/>
            </a:avLst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762120" y="5562720"/>
          <a:ext cx="542880" cy="533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62120" y="5562720"/>
                    <a:ext cx="54288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1038240" y="5932440"/>
            <a:ext cx="1600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anklin Gothic Book"/>
              </a:rPr>
              <a:t>Output Forma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anklin Gothic Book"/>
              </a:rPr>
              <a:t>(HTML, Excel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anklin Gothic Book"/>
              </a:rPr>
              <a:t>PDF, Custo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1143000" y="5183280"/>
          <a:ext cx="419040" cy="458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5183280"/>
                    <a:ext cx="41904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1" name="" descr=""/>
          <p:cNvPicPr/>
          <p:nvPr/>
        </p:nvPicPr>
        <p:blipFill>
          <a:blip r:embed="rId10"/>
          <a:stretch/>
        </p:blipFill>
        <p:spPr>
          <a:xfrm>
            <a:off x="380880" y="5257800"/>
            <a:ext cx="509760" cy="50004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2438280" y="1295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Brow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438280" y="2971800"/>
            <a:ext cx="1600200" cy="45720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ranklin Gothic Book"/>
              </a:rPr>
              <a:t>Web 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048120" y="2514600"/>
            <a:ext cx="380880" cy="457200"/>
          </a:xfrm>
          <a:prstGeom prst="upDownArrow">
            <a:avLst>
              <a:gd name="adj1" fmla="val 50000"/>
              <a:gd name="adj2" fmla="val 23896"/>
            </a:avLst>
          </a:prstGeom>
          <a:gradFill rotWithShape="0">
            <a:gsLst>
              <a:gs pos="0">
                <a:srgbClr val="525252"/>
              </a:gs>
              <a:gs pos="100000">
                <a:srgbClr val="b2b2b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2514600"/>
            <a:ext cx="380880" cy="914400"/>
          </a:xfrm>
          <a:prstGeom prst="upDownArrow">
            <a:avLst>
              <a:gd name="adj1" fmla="val 50000"/>
              <a:gd name="adj2" fmla="val 47793"/>
            </a:avLst>
          </a:prstGeom>
          <a:gradFill rotWithShape="0">
            <a:gsLst>
              <a:gs pos="0">
                <a:srgbClr val="525252"/>
              </a:gs>
              <a:gs pos="100000">
                <a:srgbClr val="b2b2b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590920" y="4419720"/>
            <a:ext cx="4114800" cy="4572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35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Report Proces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72240" y="1693800"/>
            <a:ext cx="1323720" cy="749520"/>
            <a:chOff x="5772240" y="1693800"/>
            <a:chExt cx="1323720" cy="749520"/>
          </a:xfrm>
        </p:grpSpPr>
        <p:sp>
          <p:nvSpPr>
            <p:cNvPr id="208" name=""/>
            <p:cNvSpPr/>
            <p:nvPr/>
          </p:nvSpPr>
          <p:spPr>
            <a:xfrm>
              <a:off x="5772240" y="1693800"/>
              <a:ext cx="1323720" cy="749520"/>
            </a:xfrm>
            <a:prstGeom prst="rect">
              <a:avLst/>
            </a:prstGeom>
            <a:gradFill rotWithShape="0">
              <a:gsLst>
                <a:gs pos="0">
                  <a:srgbClr val="17175e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Franklin Gothic Book"/>
                </a:rPr>
                <a:t>Report Contro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426360" y="2179800"/>
              <a:ext cx="603000" cy="225360"/>
            </a:xfrm>
            <a:prstGeom prst="rect">
              <a:avLst/>
            </a:prstGeom>
            <a:gradFill rotWithShape="0">
              <a:gsLst>
                <a:gs pos="0">
                  <a:srgbClr val="5e5e75"/>
                </a:gs>
                <a:gs pos="100000">
                  <a:srgbClr val="ccccff"/>
                </a:gs>
              </a:gsLst>
              <a:lin ang="13500000"/>
            </a:gra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Franklin Gothic Book"/>
                </a:rPr>
                <a:t>Data Proc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807160" y="2181240"/>
              <a:ext cx="552240" cy="223920"/>
            </a:xfrm>
            <a:prstGeom prst="rect">
              <a:avLst/>
            </a:prstGeom>
            <a:gradFill rotWithShape="0">
              <a:gsLst>
                <a:gs pos="0">
                  <a:srgbClr val="5e5e75"/>
                </a:gs>
                <a:gs pos="100000">
                  <a:srgbClr val="ccccff"/>
                </a:gs>
              </a:gsLst>
              <a:lin ang="13500000"/>
            </a:gra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Franklin Gothic Book"/>
                </a:rPr>
                <a:t>Renderin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807160" y="1935000"/>
              <a:ext cx="1218960" cy="187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Franklin Gothic Book"/>
                </a:rPr>
                <a:t>Report Processin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3962520" y="12952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Off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172200" y="2514600"/>
            <a:ext cx="380880" cy="914400"/>
          </a:xfrm>
          <a:prstGeom prst="upDownArrow">
            <a:avLst>
              <a:gd name="adj1" fmla="val 50000"/>
              <a:gd name="adj2" fmla="val 47793"/>
            </a:avLst>
          </a:prstGeom>
          <a:gradFill rotWithShape="0">
            <a:gsLst>
              <a:gs pos="0">
                <a:srgbClr val="525252"/>
              </a:gs>
              <a:gs pos="100000">
                <a:srgbClr val="b2b2b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562720" y="12952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Custom A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2381400" y="1636560"/>
          <a:ext cx="1563480" cy="1024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81400" y="1636560"/>
                    <a:ext cx="1563480" cy="10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7" name="" descr=""/>
          <p:cNvPicPr/>
          <p:nvPr/>
        </p:nvPicPr>
        <p:blipFill>
          <a:blip r:embed="rId13"/>
          <a:stretch/>
        </p:blipFill>
        <p:spPr>
          <a:xfrm>
            <a:off x="4094280" y="1616040"/>
            <a:ext cx="134136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914400" y="0"/>
            <a:ext cx="754380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838080" y="0"/>
            <a:ext cx="754380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219320" y="76212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5880" y="685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Presen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75248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bcast One &amp; Two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586728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Q&amp;A – Call to 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477120" y="15238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Microso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41148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ymme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477120" y="2057400"/>
            <a:ext cx="2666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hael Aco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ve Wick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477120" y="47242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n B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220968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chnology Drill D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2590920"/>
            <a:ext cx="3962160" cy="29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id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 integr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kill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ign deci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paring for Yuk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457200" y="28440"/>
            <a:ext cx="8229600" cy="680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28240" y="609480"/>
            <a:ext cx="8915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DTS - </a:t>
            </a: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Data Transformation Service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raction/Transformation/Loading – ET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anching &amp; Error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Pu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ous Sources &amp; Tar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ormation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Driven Query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914040" y="11430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OLTP Sch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762120" y="1600200"/>
            <a:ext cx="3143160" cy="48290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4343400" y="1600200"/>
            <a:ext cx="3409920" cy="48769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4114800" y="1676520"/>
            <a:ext cx="0" cy="4800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1143000"/>
            <a:ext cx="2971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Star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Moving From OLTP to OLA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914400" y="1676520"/>
            <a:ext cx="5334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: GUI for all elements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xible: deal with a wide variety of data 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: good data/time ra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bust: rich development and workflow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ble: plug in additional elements for any n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fordable: no explanation 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6781680" y="1600200"/>
            <a:ext cx="427320" cy="4038120"/>
            <a:chOff x="6781680" y="1600200"/>
            <a:chExt cx="427320" cy="4038120"/>
          </a:xfrm>
        </p:grpSpPr>
        <p:pic>
          <p:nvPicPr>
            <p:cNvPr id="235" name="" descr=""/>
            <p:cNvPicPr/>
            <p:nvPr/>
          </p:nvPicPr>
          <p:blipFill>
            <a:blip r:embed="rId2"/>
            <a:stretch/>
          </p:blipFill>
          <p:spPr>
            <a:xfrm>
              <a:off x="6781680" y="1600200"/>
              <a:ext cx="427320" cy="45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" descr=""/>
            <p:cNvPicPr/>
            <p:nvPr/>
          </p:nvPicPr>
          <p:blipFill>
            <a:blip r:embed="rId3"/>
            <a:stretch/>
          </p:blipFill>
          <p:spPr>
            <a:xfrm>
              <a:off x="6781680" y="2133360"/>
              <a:ext cx="427320" cy="45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" descr=""/>
            <p:cNvPicPr/>
            <p:nvPr/>
          </p:nvPicPr>
          <p:blipFill>
            <a:blip r:embed="rId4"/>
            <a:stretch/>
          </p:blipFill>
          <p:spPr>
            <a:xfrm>
              <a:off x="6781680" y="2971440"/>
              <a:ext cx="427320" cy="45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" descr=""/>
            <p:cNvPicPr/>
            <p:nvPr/>
          </p:nvPicPr>
          <p:blipFill>
            <a:blip r:embed="rId5"/>
            <a:stretch/>
          </p:blipFill>
          <p:spPr>
            <a:xfrm>
              <a:off x="6781680" y="3504960"/>
              <a:ext cx="427320" cy="45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" descr=""/>
            <p:cNvPicPr/>
            <p:nvPr/>
          </p:nvPicPr>
          <p:blipFill>
            <a:blip r:embed="rId6"/>
            <a:stretch/>
          </p:blipFill>
          <p:spPr>
            <a:xfrm>
              <a:off x="6781680" y="4343040"/>
              <a:ext cx="427320" cy="45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7"/>
            <a:stretch/>
          </p:blipFill>
          <p:spPr>
            <a:xfrm>
              <a:off x="6781680" y="5181480"/>
              <a:ext cx="427320" cy="45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1" name=""/>
          <p:cNvSpPr/>
          <p:nvPr/>
        </p:nvSpPr>
        <p:spPr>
          <a:xfrm>
            <a:off x="685800" y="7621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DTS for ET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114480" y="73080"/>
            <a:ext cx="8915400" cy="67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685800" y="7621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Building an ETL mechanis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380880" y="14475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hoice: use data mart/data warehouse or no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L 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your long-term OLTP archive strateg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mental ETL: are records ever dele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ll facts then dimen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dimensions then f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rogate keys and time dimension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sing and “garbage collector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TS accomplishes all of this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MS Client Op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fice Web Com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S Data Analy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iness Scorecard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Excel Add-in for OLAP Reporting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ment Pivot Tables with easier repo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 like “normal” Exc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elaborately formatted Excel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sheet data placement for cell-by-cell flex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er assistant to speed up report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-back support and What If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Form &amp; Semi-Structured Repo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27000" y="0"/>
            <a:ext cx="9117000" cy="60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OWC – Office Web Component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3581280" y="1846440"/>
            <a:ext cx="5562720" cy="44082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15228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AP Compon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ll D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v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t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miliar Pivot Table like function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ids and Ch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Webcast One Review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add BI to your product off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nue Opport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Market Opport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itive Advan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Microsoft Data Analyzer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ical Analysis and Data Visu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intuitive views of data to identify opportunities, trends and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ly spot relationships in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Screen shot of Data Analyzer user interface"/>
          <p:cNvPicPr/>
          <p:nvPr/>
        </p:nvPicPr>
        <p:blipFill>
          <a:blip r:embed="rId2"/>
          <a:stretch/>
        </p:blipFill>
        <p:spPr>
          <a:xfrm>
            <a:off x="4419720" y="160020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Business Scorecard Solutio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a rich and flexible framework for developing and managing scorec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management infrastructure for scorecards and KP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tools to assist in defining scorecard elements and visualizing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corecard Engine is fully web service enabled which provides flexibility in automation and visualization of the score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Point integration allows visualization of KPIs and scorecards, personalization,  and integrates into collaboration and communication 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Scorecard Architectur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143000" y="3159000"/>
            <a:ext cx="4419720" cy="1143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82480" y="1509840"/>
            <a:ext cx="598680" cy="711000"/>
          </a:xfrm>
          <a:prstGeom prst="flowChartInternalStorage">
            <a:avLst/>
          </a:prstGeom>
          <a:gradFill rotWithShape="0">
            <a:gsLst>
              <a:gs pos="0">
                <a:srgbClr val="203e6e"/>
              </a:gs>
              <a:gs pos="100000">
                <a:srgbClr val="4787e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177920" y="1446120"/>
            <a:ext cx="1133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9920" indent="-169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I for entering your scorecard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69920" indent="-169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b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39760" y="914400"/>
            <a:ext cx="13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corecar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uil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667480" y="1584360"/>
            <a:ext cx="592200" cy="720720"/>
          </a:xfrm>
          <a:prstGeom prst="flowChartInternalStorage">
            <a:avLst/>
          </a:prstGeom>
          <a:gradFill rotWithShape="0">
            <a:gsLst>
              <a:gs pos="0">
                <a:srgbClr val="203e6e"/>
              </a:gs>
              <a:gs pos="100000">
                <a:srgbClr val="4787e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253200" y="1522440"/>
            <a:ext cx="10666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9920" indent="-169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a entry interface for manually entered targ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606280" y="98100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a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620120" y="3290760"/>
            <a:ext cx="14302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9920" indent="-169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ploy your scoreca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69920" indent="-169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ustomize your vie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69920" indent="-169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harePoint Portal Serv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69920" indent="-169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lution-specific web pa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398360" y="1371600"/>
            <a:ext cx="166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corec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res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2765520" y="3314880"/>
            <a:ext cx="1009440" cy="7999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1330920" y="3398760"/>
            <a:ext cx="13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Verdana"/>
              </a:rPr>
              <a:t>Scorec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Verdana"/>
              </a:rPr>
              <a:t>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795840" y="3309840"/>
            <a:ext cx="1447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9920" indent="-16992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Understands your BSC dat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69920" indent="-16992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Builds the scorec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867280" y="3730680"/>
            <a:ext cx="99072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19080" y="2354400"/>
            <a:ext cx="457200" cy="685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743200" y="241128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3962520" y="2459160"/>
            <a:ext cx="380880" cy="53316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359080" y="1539720"/>
            <a:ext cx="593640" cy="720720"/>
          </a:xfrm>
          <a:prstGeom prst="flowChartInternalStorage">
            <a:avLst/>
          </a:prstGeom>
          <a:gradFill rotWithShape="0">
            <a:gsLst>
              <a:gs pos="0">
                <a:srgbClr val="203e6e"/>
              </a:gs>
              <a:gs pos="100000">
                <a:srgbClr val="4787e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48040" y="1476360"/>
            <a:ext cx="1068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9920" indent="-169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I for building your strategy ma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69920" indent="-169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s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839960" y="949320"/>
            <a:ext cx="17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trategy M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uil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315200" y="1596960"/>
            <a:ext cx="0" cy="38102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5638320" y="2502000"/>
            <a:ext cx="381240" cy="53316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984480" y="1568520"/>
            <a:ext cx="594000" cy="720720"/>
          </a:xfrm>
          <a:prstGeom prst="flowChartInternalStorage">
            <a:avLst/>
          </a:prstGeom>
          <a:gradFill rotWithShape="0">
            <a:gsLst>
              <a:gs pos="0">
                <a:srgbClr val="203e6e"/>
              </a:gs>
              <a:gs pos="100000">
                <a:srgbClr val="4787e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557600" y="1506600"/>
            <a:ext cx="10987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9920" indent="-169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fine KPI mappings and data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790440" y="979560"/>
            <a:ext cx="10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5029200" y="4648320"/>
            <a:ext cx="2357280" cy="1690560"/>
            <a:chOff x="5029200" y="4648320"/>
            <a:chExt cx="2357280" cy="1690560"/>
          </a:xfrm>
        </p:grpSpPr>
        <p:sp>
          <p:nvSpPr>
            <p:cNvPr id="284" name=""/>
            <p:cNvSpPr/>
            <p:nvPr/>
          </p:nvSpPr>
          <p:spPr>
            <a:xfrm>
              <a:off x="5029200" y="5193000"/>
              <a:ext cx="993600" cy="1145880"/>
            </a:xfrm>
            <a:prstGeom prst="flowChartMagneticDisk">
              <a:avLst/>
            </a:prstGeom>
            <a:gradFill rotWithShape="0">
              <a:gsLst>
                <a:gs pos="0">
                  <a:srgbClr val="04080e"/>
                </a:gs>
                <a:gs pos="100000">
                  <a:srgbClr val="4787e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Scorecar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D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091200" y="4648320"/>
              <a:ext cx="12952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9920" indent="-16992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aptures information about your scoreca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9920" indent="-16992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QL Ser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289080" y="5005440"/>
            <a:ext cx="914400" cy="1066680"/>
          </a:xfrm>
          <a:prstGeom prst="flowChartMagneticDisk">
            <a:avLst/>
          </a:prstGeom>
          <a:gradFill rotWithShape="0">
            <a:gsLst>
              <a:gs pos="0">
                <a:srgbClr val="5f5f5f"/>
              </a:gs>
              <a:gs pos="100000">
                <a:srgbClr val="00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Sourc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System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93640" y="4395960"/>
            <a:ext cx="685800" cy="533160"/>
          </a:xfrm>
          <a:custGeom>
            <a:avLst/>
            <a:gdLst>
              <a:gd name="textAreaLeft" fmla="*/ 0 w 685800"/>
              <a:gd name="textAreaRight" fmla="*/ 686160 w 68580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889280" y="5081760"/>
            <a:ext cx="1009440" cy="838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04080e"/>
              </a:gs>
              <a:gs pos="100000">
                <a:srgbClr val="4787e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corec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ub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971800" y="4745160"/>
            <a:ext cx="1457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9920" indent="-169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orecard cube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69920" indent="-169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commended SSABI-based, customiz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79440" y="5310360"/>
            <a:ext cx="4572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737240" y="4191120"/>
            <a:ext cx="525240" cy="5824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498400" y="4319640"/>
            <a:ext cx="609480" cy="6094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14480" y="4202280"/>
            <a:ext cx="4278240" cy="2111040"/>
          </a:xfrm>
          <a:prstGeom prst="rect">
            <a:avLst/>
          </a:prstGeom>
          <a:noFill/>
          <a:ln cap="rnd" w="284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7848720" y="2111400"/>
            <a:ext cx="914040" cy="1066680"/>
            <a:chOff x="7848720" y="2111400"/>
            <a:chExt cx="914040" cy="1066680"/>
          </a:xfrm>
        </p:grpSpPr>
        <p:sp>
          <p:nvSpPr>
            <p:cNvPr id="295" name=""/>
            <p:cNvSpPr/>
            <p:nvPr/>
          </p:nvSpPr>
          <p:spPr>
            <a:xfrm>
              <a:off x="7848720" y="2111400"/>
              <a:ext cx="914040" cy="1066680"/>
            </a:xfrm>
            <a:prstGeom prst="flowChartInternalStorag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6" name="" descr=""/>
            <p:cNvPicPr/>
            <p:nvPr/>
          </p:nvPicPr>
          <p:blipFill>
            <a:blip r:embed="rId3"/>
            <a:stretch/>
          </p:blipFill>
          <p:spPr>
            <a:xfrm>
              <a:off x="8097840" y="2797200"/>
              <a:ext cx="54540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" descr=""/>
            <p:cNvPicPr/>
            <p:nvPr/>
          </p:nvPicPr>
          <p:blipFill>
            <a:blip r:embed="rId4"/>
            <a:stretch/>
          </p:blipFill>
          <p:spPr>
            <a:xfrm>
              <a:off x="8097840" y="2340000"/>
              <a:ext cx="581760" cy="41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366840" y="0"/>
            <a:ext cx="846756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Skill Enhancemen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DX – Multidimensional Expr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/A – XML For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OMD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SO – Decision Support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DL – Report Definition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Design Decis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sis Services, Reporting Services, or bo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ent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ther or not to stag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AS, RS, or Both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41907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alysis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r Based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bedded Meta-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ch Calc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ctive Navi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base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343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porting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 Busin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 Calc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ed 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ry, Calc, &amp;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600200" y="5334120"/>
            <a:ext cx="5943600" cy="11430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2f5e75"/>
              </a:gs>
              <a:gs pos="50000">
                <a:srgbClr val="66ccff"/>
              </a:gs>
              <a:gs pos="100000">
                <a:srgbClr val="2f5e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sing both gives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greatest flexibility and feature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ent Integration Decis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f-The-Sh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S Excel, MS OWC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party 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 your ow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rt C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248520" y="1752480"/>
            <a:ext cx="2590560" cy="2133720"/>
          </a:xfrm>
          <a:prstGeom prst="wedgeRoundRectCallout">
            <a:avLst>
              <a:gd name="adj1" fmla="val -150365"/>
              <a:gd name="adj2" fmla="val -26189"/>
              <a:gd name="adj3" fmla="val 16667"/>
            </a:avLst>
          </a:prstGeom>
          <a:gradFill rotWithShape="0">
            <a:gsLst>
              <a:gs pos="0">
                <a:srgbClr val="66ccff"/>
              </a:gs>
              <a:gs pos="100000">
                <a:srgbClr val="4386a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Quick Deploy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Limited Custom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562720" y="4191120"/>
            <a:ext cx="3276360" cy="2133360"/>
          </a:xfrm>
          <a:prstGeom prst="wedgeRoundRectCallout">
            <a:avLst>
              <a:gd name="adj1" fmla="val -100000"/>
              <a:gd name="adj2" fmla="val -38689"/>
              <a:gd name="adj3" fmla="val 16667"/>
            </a:avLst>
          </a:prstGeom>
          <a:gradFill rotWithShape="0">
            <a:gsLst>
              <a:gs pos="0">
                <a:srgbClr val="66ccff"/>
              </a:gs>
              <a:gs pos="100000">
                <a:srgbClr val="4386a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Consistent Look &amp; Feel with your a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Start-Up Eff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Staging Data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 for transform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ical tr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s lo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ent que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rect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 for low lat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 in time rep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DB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onal Rep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600200" y="5334120"/>
            <a:ext cx="5943600" cy="11430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2f5e75"/>
              </a:gs>
              <a:gs pos="50000">
                <a:srgbClr val="66ccff"/>
              </a:gs>
              <a:gs pos="100000">
                <a:srgbClr val="2f5e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ne of the most important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ard to change architecture deci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Tool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SABI – SQL Server Accelerator for B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SO/XML and DTS/X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 Por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Webcast Two Review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1930320" y="2141640"/>
            <a:ext cx="5280840" cy="3800520"/>
            <a:chOff x="1930320" y="2141640"/>
            <a:chExt cx="5280840" cy="3800520"/>
          </a:xfrm>
        </p:grpSpPr>
        <p:sp>
          <p:nvSpPr>
            <p:cNvPr id="66" name="_s451589"/>
            <p:cNvSpPr/>
            <p:nvPr/>
          </p:nvSpPr>
          <p:spPr>
            <a:xfrm>
              <a:off x="3607200" y="2817000"/>
              <a:ext cx="1928520" cy="1928160"/>
            </a:xfrm>
            <a:prstGeom prst="ellipse">
              <a:avLst/>
            </a:prstGeom>
            <a:solidFill>
              <a:srgbClr val="ffcc00">
                <a:alpha val="50000"/>
              </a:srgbClr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_s451590"/>
            <p:cNvSpPr/>
            <p:nvPr/>
          </p:nvSpPr>
          <p:spPr>
            <a:xfrm>
              <a:off x="4070880" y="2141640"/>
              <a:ext cx="100188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Architectur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_s451591"/>
            <p:cNvSpPr/>
            <p:nvPr/>
          </p:nvSpPr>
          <p:spPr>
            <a:xfrm>
              <a:off x="4242960" y="3917160"/>
              <a:ext cx="1928520" cy="1928520"/>
            </a:xfrm>
            <a:prstGeom prst="ellipse">
              <a:avLst/>
            </a:prstGeom>
            <a:solidFill>
              <a:srgbClr val="ccffcc">
                <a:alpha val="50000"/>
              </a:srgbClr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_s451592"/>
            <p:cNvSpPr/>
            <p:nvPr/>
          </p:nvSpPr>
          <p:spPr>
            <a:xfrm>
              <a:off x="6209280" y="5460120"/>
              <a:ext cx="100188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Technology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_s451593"/>
            <p:cNvSpPr/>
            <p:nvPr/>
          </p:nvSpPr>
          <p:spPr>
            <a:xfrm>
              <a:off x="2970000" y="3915360"/>
              <a:ext cx="1928520" cy="1928160"/>
            </a:xfrm>
            <a:prstGeom prst="ellipse">
              <a:avLst/>
            </a:prstGeom>
            <a:solidFill>
              <a:srgbClr val="00ccff">
                <a:alpha val="50000"/>
              </a:srgbClr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_s451594"/>
            <p:cNvSpPr/>
            <p:nvPr/>
          </p:nvSpPr>
          <p:spPr>
            <a:xfrm>
              <a:off x="1930320" y="5458320"/>
              <a:ext cx="1001880" cy="4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Busines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Knowledg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256280" y="4272840"/>
              <a:ext cx="63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228600" y="2819520"/>
            <a:ext cx="27432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iness Knowle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 performance Indicators (KPI’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ided 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-Coding &amp; Ale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istics &amp; Data Mi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172200" y="2819520"/>
            <a:ext cx="28954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Access and Stag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gregations and Calcu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or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SABI -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ccelerator for Business Intelligence</a:t>
            </a:r>
            <a:br>
              <a:rPr sz="3200"/>
            </a:b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pid BI Development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stry Data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dge the BI Skill Ga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SABI solutions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 Platform (Windows, SQL Serv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ustry Specific Schema / K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criptive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 and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SSABI Architectur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62120" y="2684520"/>
            <a:ext cx="990360" cy="1143000"/>
          </a:xfrm>
          <a:prstGeom prst="flowChartMagneticDisk">
            <a:avLst/>
          </a:prstGeom>
          <a:gradFill rotWithShape="0">
            <a:gsLst>
              <a:gs pos="0">
                <a:srgbClr val="5f5f5f"/>
              </a:gs>
              <a:gs pos="100000">
                <a:srgbClr val="00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ourc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ystem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895400" y="1432080"/>
            <a:ext cx="9720" cy="4833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133720" y="3751200"/>
            <a:ext cx="990360" cy="1143000"/>
          </a:xfrm>
          <a:prstGeom prst="flowChartMagneticDisk">
            <a:avLst/>
          </a:prstGeom>
          <a:gradFill rotWithShape="0">
            <a:gsLst>
              <a:gs pos="0">
                <a:srgbClr val="04080e"/>
              </a:gs>
              <a:gs pos="100000">
                <a:srgbClr val="4787e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ag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00400" y="4056120"/>
            <a:ext cx="685800" cy="609480"/>
          </a:xfrm>
          <a:custGeom>
            <a:avLst/>
            <a:gdLst>
              <a:gd name="textAreaLeft" fmla="*/ 85680 w 685800"/>
              <a:gd name="textAreaRight" fmla="*/ 600120 w 68580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4080e"/>
              </a:gs>
              <a:gs pos="100000">
                <a:srgbClr val="4787e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952880" y="4056120"/>
            <a:ext cx="609840" cy="609480"/>
          </a:xfrm>
          <a:custGeom>
            <a:avLst/>
            <a:gdLst>
              <a:gd name="textAreaLeft" fmla="*/ 75960 w 609840"/>
              <a:gd name="textAreaRight" fmla="*/ 533880 w 60984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4080e"/>
              </a:gs>
              <a:gs pos="100000">
                <a:srgbClr val="4787e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562720" y="3827520"/>
            <a:ext cx="914400" cy="10666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04080e"/>
              </a:gs>
              <a:gs pos="100000">
                <a:srgbClr val="4787e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PI’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ub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553080" y="4056120"/>
            <a:ext cx="1067040" cy="609480"/>
          </a:xfrm>
          <a:custGeom>
            <a:avLst/>
            <a:gdLst>
              <a:gd name="textAreaLeft" fmla="*/ 133200 w 1067040"/>
              <a:gd name="textAreaRight" fmla="*/ 933840 w 106704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4080e"/>
              </a:gs>
              <a:gs pos="100000">
                <a:srgbClr val="4787e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OLEDB for OLA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289320" y="2455920"/>
            <a:ext cx="3578040" cy="5014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525252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alytics Buil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2895480" y="3065400"/>
            <a:ext cx="1710000" cy="600120"/>
          </a:xfrm>
          <a:prstGeom prst="line">
            <a:avLst/>
          </a:prstGeom>
          <a:ln w="349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4191120" y="3065400"/>
            <a:ext cx="457200" cy="533520"/>
          </a:xfrm>
          <a:prstGeom prst="line">
            <a:avLst/>
          </a:prstGeom>
          <a:ln w="349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648320" y="3065400"/>
            <a:ext cx="761760" cy="533520"/>
          </a:xfrm>
          <a:prstGeom prst="line">
            <a:avLst/>
          </a:prstGeom>
          <a:ln w="349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648320" y="3065400"/>
            <a:ext cx="2328840" cy="633600"/>
          </a:xfrm>
          <a:prstGeom prst="line">
            <a:avLst/>
          </a:prstGeom>
          <a:ln w="349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67160" y="5199120"/>
            <a:ext cx="1034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99"/>
                </a:solidFill>
                <a:latin typeface="Arial"/>
              </a:rPr>
              <a:t>Ser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99"/>
                </a:solidFill>
                <a:latin typeface="Arial"/>
              </a:rPr>
              <a:t>Offering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99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99"/>
                </a:solidFill>
                <a:latin typeface="Arial"/>
              </a:rPr>
              <a:t>Loa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620120" y="3903840"/>
            <a:ext cx="728640" cy="879120"/>
          </a:xfrm>
          <a:prstGeom prst="flowChartInternalStorage">
            <a:avLst/>
          </a:prstGeom>
          <a:gradFill rotWithShape="0">
            <a:gsLst>
              <a:gs pos="0">
                <a:srgbClr val="203e6e"/>
              </a:gs>
              <a:gs pos="100000">
                <a:srgbClr val="4787e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U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567240" y="4818240"/>
            <a:ext cx="175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bject Matt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1143000" y="4132440"/>
            <a:ext cx="677880" cy="660240"/>
          </a:xfrm>
          <a:custGeom>
            <a:avLst/>
            <a:gdLst>
              <a:gd name="textAreaLeft" fmla="*/ 0 w 677880"/>
              <a:gd name="textAreaRight" fmla="*/ 678240 w 677880"/>
              <a:gd name="textAreaTop" fmla="*/ 0 h 660240"/>
              <a:gd name="textAreaBottom" fmla="*/ 660240 h 660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316520" y="4894200"/>
            <a:ext cx="5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T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427560" y="5504040"/>
            <a:ext cx="1719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69920" indent="-169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nowflake sche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69920" indent="-169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pport for SC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69920" indent="-169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rrogate ke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058480" y="5504040"/>
            <a:ext cx="147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69920" indent="-169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w t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69920" indent="-169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ich pre-built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me dim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181480" y="5427720"/>
            <a:ext cx="1852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9920" indent="-169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pecial calculated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asures (KP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69920" indent="-169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ilt-in partitioning by tim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238880" y="5351400"/>
            <a:ext cx="11001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9920" indent="-169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ndard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69920" indent="-169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riou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E tools suppor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 rot="19015200">
            <a:off x="5477400" y="1789200"/>
            <a:ext cx="1303200" cy="496800"/>
          </a:xfrm>
          <a:custGeom>
            <a:avLst/>
            <a:gdLst>
              <a:gd name="textAreaLeft" fmla="*/ 227880 w 1303200"/>
              <a:gd name="textAreaRight" fmla="*/ 945000 w 1303200"/>
              <a:gd name="textAreaTop" fmla="*/ 66600 h 496800"/>
              <a:gd name="textAreaBottom" fmla="*/ 430200 h 496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525252"/>
              </a:gs>
              <a:gs pos="100000">
                <a:srgbClr val="b2b2b2"/>
              </a:gs>
            </a:gsLst>
            <a:lin ang="281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6684840" y="1515960"/>
            <a:ext cx="2306520" cy="846000"/>
            <a:chOff x="6684840" y="1515960"/>
            <a:chExt cx="2306520" cy="846000"/>
          </a:xfrm>
        </p:grpSpPr>
        <p:sp>
          <p:nvSpPr>
            <p:cNvPr id="344" name=""/>
            <p:cNvSpPr/>
            <p:nvPr/>
          </p:nvSpPr>
          <p:spPr>
            <a:xfrm>
              <a:off x="7468920" y="1647720"/>
              <a:ext cx="1522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cc99"/>
                  </a:solidFill>
                  <a:latin typeface="Arial"/>
                </a:rPr>
                <a:t>Analytics</a:t>
              </a:r>
              <a:br>
                <a:rPr sz="1600"/>
              </a:br>
              <a:r>
                <a:rPr b="1" lang="en-US" sz="1600" spc="-1" strike="noStrike">
                  <a:solidFill>
                    <a:srgbClr val="00cc99"/>
                  </a:solidFill>
                  <a:latin typeface="Arial"/>
                </a:rPr>
                <a:t>Work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5" name="" descr=""/>
            <p:cNvPicPr/>
            <p:nvPr/>
          </p:nvPicPr>
          <p:blipFill>
            <a:blip r:embed="rId2"/>
            <a:stretch/>
          </p:blipFill>
          <p:spPr>
            <a:xfrm>
              <a:off x="6684840" y="1515960"/>
              <a:ext cx="906480" cy="846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6" name="" descr=""/>
          <p:cNvPicPr/>
          <p:nvPr/>
        </p:nvPicPr>
        <p:blipFill>
          <a:blip r:embed="rId3"/>
          <a:stretch/>
        </p:blipFill>
        <p:spPr>
          <a:xfrm>
            <a:off x="3962520" y="3929040"/>
            <a:ext cx="911160" cy="97632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1136160" y="6384960"/>
            <a:ext cx="575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ttp://www.microsoft.com/solutions/bi/default.asp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685800" y="7621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DSO/XML and DTS/XM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you deploy an OLAP solu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tools allow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nd-trip XML conversion* of Analysis Services objects and DTS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ML-based docu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nd redistribution: ISVs must negotiate a redistribution agreement with Microsoft - a template agreement is a related download. There is no charge for the software, but a separate agreement must be in place in order to redistribu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Microsoft BI Technology Stack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903240" y="2133720"/>
            <a:ext cx="7337160" cy="3933720"/>
            <a:chOff x="903240" y="2133720"/>
            <a:chExt cx="7337160" cy="3933720"/>
          </a:xfrm>
        </p:grpSpPr>
        <p:sp>
          <p:nvSpPr>
            <p:cNvPr id="77" name=""/>
            <p:cNvSpPr/>
            <p:nvPr/>
          </p:nvSpPr>
          <p:spPr>
            <a:xfrm>
              <a:off x="903240" y="2286000"/>
              <a:ext cx="23814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0000"/>
                  </a:solidFill>
                  <a:latin typeface="Arial"/>
                </a:rPr>
                <a:t>Integrat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0000"/>
                  </a:solidFill>
                  <a:latin typeface="Arial"/>
                </a:rPr>
                <a:t>Technolog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0000"/>
                  </a:solidFill>
                  <a:latin typeface="Arial"/>
                </a:rPr>
                <a:t>Stac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979560" y="4419720"/>
              <a:ext cx="23810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0000"/>
                  </a:solidFill>
                  <a:latin typeface="Arial"/>
                </a:rPr>
                <a:t>Based On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0000"/>
                  </a:solidFill>
                  <a:latin typeface="Arial"/>
                </a:rPr>
                <a:t>Industry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0000"/>
                  </a:solidFill>
                  <a:latin typeface="Arial"/>
                </a:rPr>
                <a:t>Standard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3417840" y="2133720"/>
              <a:ext cx="4822560" cy="3933720"/>
              <a:chOff x="3417840" y="2133720"/>
              <a:chExt cx="4822560" cy="3933720"/>
            </a:xfrm>
          </p:grpSpPr>
          <p:pic>
            <p:nvPicPr>
              <p:cNvPr id="8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233600" y="2156040"/>
                <a:ext cx="3463920" cy="892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930640" y="3048120"/>
                <a:ext cx="1728720" cy="1285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300200" y="3049560"/>
                <a:ext cx="1630440" cy="1285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417840" y="2133720"/>
                <a:ext cx="811080" cy="3911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233600" y="4354560"/>
                <a:ext cx="2784600" cy="171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018200" y="4351320"/>
                <a:ext cx="565200" cy="161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" name=""/>
              <p:cNvSpPr/>
              <p:nvPr/>
            </p:nvSpPr>
            <p:spPr>
              <a:xfrm>
                <a:off x="6964560" y="4351320"/>
                <a:ext cx="646200" cy="153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 vert="eaVer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Management Tool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0800000">
                <a:off x="3471120" y="2739960"/>
                <a:ext cx="646200" cy="270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 vert="eaVer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Dev Tools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Visual Studio .Ne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235400" y="3287520"/>
                <a:ext cx="1763640" cy="79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168120" indent="-168120"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Exce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68120" indent="-168120"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OW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68120" indent="-168120"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Data Analyz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871960" y="3286080"/>
                <a:ext cx="1825560" cy="79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168120" indent="-168120"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hare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68120" indent="-168120"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rtal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68120" indent="-168120"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930560" y="2443320"/>
                <a:ext cx="3309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14480" indent="-114480">
                  <a:lnSpc>
                    <a:spcPct val="100000"/>
                  </a:lnSpc>
                  <a:spcBef>
                    <a:spcPts val="1125"/>
                  </a:spcBef>
                  <a:buClr>
                    <a:srgbClr val="3333cc"/>
                  </a:buClr>
                  <a:buFont typeface="Franklin Gothic Book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cc"/>
                    </a:solidFill>
                    <a:latin typeface="Franklin Gothic Book"/>
                  </a:rPr>
                  <a:t>Business Scorecard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911480" y="2649600"/>
                <a:ext cx="3311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14480" indent="-114480">
                  <a:lnSpc>
                    <a:spcPct val="100000"/>
                  </a:lnSpc>
                  <a:spcBef>
                    <a:spcPts val="1125"/>
                  </a:spcBef>
                  <a:buClr>
                    <a:srgbClr val="3333cc"/>
                  </a:buClr>
                  <a:buFont typeface="Franklin Gothic Book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cc"/>
                    </a:solidFill>
                    <a:latin typeface="Franklin Gothic Book"/>
                  </a:rPr>
                  <a:t>Excel Reportin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505040" y="2245680"/>
                <a:ext cx="2854440" cy="32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168120" indent="-168120"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olution Accelerator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235400" y="4397400"/>
                <a:ext cx="278100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QL Serv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cc99"/>
                    </a:solidFill>
                    <a:latin typeface="Arial"/>
                  </a:rPr>
                  <a:t>Relational Engin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94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00200" y="4834080"/>
                <a:ext cx="2649600" cy="546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5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300200" y="5383440"/>
                <a:ext cx="2649600" cy="546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>
                <a:off x="4235400" y="4905360"/>
                <a:ext cx="2781000" cy="30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Reporting Servic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302000" y="5381640"/>
                <a:ext cx="278280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nalysis Servic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cc99"/>
                    </a:solidFill>
                    <a:latin typeface="Arial"/>
                  </a:rPr>
                  <a:t>OLAP &amp; Data Min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icrosoft Business Intelligence Portal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ngs MS BI clients (viewers) together in a managed portal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es public &amp; private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SharePoint/OWC/Data Analy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.NET, Web-based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Preparing for Yuko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-Time Analy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Performances Indic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Data M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TS - Enterprise Pipeline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is basis for every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143000" y="4800600"/>
            <a:ext cx="6858000" cy="19051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2f5e75"/>
              </a:gs>
              <a:gs pos="50000">
                <a:srgbClr val="66ccff"/>
              </a:gs>
              <a:gs pos="100000">
                <a:srgbClr val="2f5e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investment in today’s plat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an investment in the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-To-End BI Servers/Clients/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all of it is for every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what you need, carefu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chitect your BI app for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143000" y="4572000"/>
            <a:ext cx="6858000" cy="19051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2f5e75"/>
              </a:gs>
              <a:gs pos="50000">
                <a:srgbClr val="66ccff"/>
              </a:gs>
              <a:gs pos="100000">
                <a:srgbClr val="2f5e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 is not an all or nothing deci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ull stack or interop – Use what fit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5345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is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microsoft.com/sql/evaluation/bi/bianalysis.as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ing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microsoft.com/sql/reporting/techinfo/default.a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microsoft.com/office/previous/xp/business/intelligence/default.as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s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rosoft.public.sqlserver.ol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rosoft.public.sqlserver.reportingsv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762120" y="838080"/>
            <a:ext cx="579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Contact Inform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447920" y="205740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ris La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447920" y="4478400"/>
            <a:ext cx="3962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n@symcorp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510 524-034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447920" y="409716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 Nimnic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295280" y="152388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roso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447920" y="2376360"/>
            <a:ext cx="39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rge@microsof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295280" y="356400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181480" y="230184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View a recording  of this Webc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733920" y="2911320"/>
            <a:ext cx="563868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http://www.msusapartnerreadiness.com/</a:t>
            </a:r>
            <a:br>
              <a:rPr sz="2000"/>
            </a:b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webcast/recordedwebcasts.a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Or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www.Symcorp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447920" y="275760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chael Aco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447920" y="3138480"/>
            <a:ext cx="39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osta@microsof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Microsoft BI Architectur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927840" y="1434960"/>
            <a:ext cx="2027160" cy="3657600"/>
            <a:chOff x="6927840" y="1434960"/>
            <a:chExt cx="2027160" cy="3657600"/>
          </a:xfrm>
        </p:grpSpPr>
        <p:sp>
          <p:nvSpPr>
            <p:cNvPr id="100" name=""/>
            <p:cNvSpPr/>
            <p:nvPr/>
          </p:nvSpPr>
          <p:spPr>
            <a:xfrm>
              <a:off x="7184880" y="1434960"/>
              <a:ext cx="1770120" cy="365760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75294"/>
                  </a:srgbClr>
                </a:gs>
                <a:gs pos="50000">
                  <a:srgbClr val="000000">
                    <a:alpha val="75294"/>
                  </a:srgbClr>
                </a:gs>
                <a:gs pos="100000">
                  <a:srgbClr val="000000">
                    <a:alpha val="75294"/>
                  </a:srgbClr>
                </a:gs>
              </a:gsLst>
              <a:lin ang="13500000"/>
            </a:gradFill>
            <a:ln w="9360">
              <a:solidFill>
                <a:srgbClr val="9999ff"/>
              </a:solidFill>
              <a:miter/>
            </a:ln>
            <a:effectLst>
              <a:outerShdw dist="17819" dir="2700000" blurRad="0" rotWithShape="0">
                <a:srgbClr val="080604">
                  <a:alpha val="2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2"/>
            <a:stretch/>
          </p:blipFill>
          <p:spPr>
            <a:xfrm>
              <a:off x="6927840" y="3665160"/>
              <a:ext cx="619200" cy="51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3"/>
            <a:stretch/>
          </p:blipFill>
          <p:spPr>
            <a:xfrm>
              <a:off x="7885080" y="3266640"/>
              <a:ext cx="53496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7559280" y="3019320"/>
              <a:ext cx="1232280" cy="24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Office/SharePoi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7954920" y="2344320"/>
              <a:ext cx="446040" cy="70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5"/>
            <a:stretch/>
          </p:blipFill>
          <p:spPr>
            <a:xfrm>
              <a:off x="7494480" y="1839600"/>
              <a:ext cx="611280" cy="4986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06" name=""/>
            <p:cNvGraphicFramePr/>
            <p:nvPr/>
          </p:nvGraphicFramePr>
          <p:xfrm>
            <a:off x="8236080" y="1836360"/>
            <a:ext cx="574560" cy="4446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236080" y="1836360"/>
                      <a:ext cx="574560" cy="44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8" name=""/>
            <p:cNvSpPr/>
            <p:nvPr/>
          </p:nvSpPr>
          <p:spPr>
            <a:xfrm>
              <a:off x="7525080" y="1530000"/>
              <a:ext cx="528120" cy="24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Cli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233200" y="1530000"/>
              <a:ext cx="535680" cy="24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Port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2046240" y="2970360"/>
            <a:ext cx="5065920" cy="2125440"/>
          </a:xfrm>
          <a:prstGeom prst="rect">
            <a:avLst/>
          </a:prstGeom>
          <a:gradFill rotWithShape="0">
            <a:gsLst>
              <a:gs pos="0">
                <a:srgbClr val="000000">
                  <a:alpha val="75294"/>
                </a:srgbClr>
              </a:gs>
              <a:gs pos="50000">
                <a:srgbClr val="000000">
                  <a:alpha val="75294"/>
                </a:srgbClr>
              </a:gs>
              <a:gs pos="100000">
                <a:srgbClr val="000000">
                  <a:alpha val="75294"/>
                </a:srgbClr>
              </a:gs>
            </a:gsLst>
            <a:lin ang="13500000"/>
          </a:gradFill>
          <a:ln w="9360">
            <a:solidFill>
              <a:srgbClr val="9999ff"/>
            </a:solidFill>
            <a:miter/>
          </a:ln>
          <a:effectLst>
            <a:outerShdw dist="17819" dir="2700000" blurRad="0" rotWithShape="0">
              <a:srgbClr val="0806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3040" y="1434960"/>
            <a:ext cx="1770120" cy="3657600"/>
          </a:xfrm>
          <a:prstGeom prst="rect">
            <a:avLst/>
          </a:prstGeom>
          <a:gradFill rotWithShape="0">
            <a:gsLst>
              <a:gs pos="0">
                <a:srgbClr val="000000">
                  <a:alpha val="75294"/>
                </a:srgbClr>
              </a:gs>
              <a:gs pos="50000">
                <a:srgbClr val="000000">
                  <a:alpha val="75294"/>
                </a:srgbClr>
              </a:gs>
              <a:gs pos="100000">
                <a:srgbClr val="000000">
                  <a:alpha val="75294"/>
                </a:srgbClr>
              </a:gs>
            </a:gsLst>
            <a:lin ang="13500000"/>
          </a:gradFill>
          <a:ln w="9360">
            <a:solidFill>
              <a:srgbClr val="9999ff"/>
            </a:solidFill>
            <a:miter/>
          </a:ln>
          <a:effectLst>
            <a:outerShdw dist="17819" dir="2700000" blurRad="0" rotWithShape="0">
              <a:srgbClr val="0806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8"/>
          <a:stretch/>
        </p:blipFill>
        <p:spPr>
          <a:xfrm>
            <a:off x="1054080" y="3138480"/>
            <a:ext cx="838080" cy="1006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9"/>
          <a:stretch/>
        </p:blipFill>
        <p:spPr>
          <a:xfrm>
            <a:off x="1092240" y="1727280"/>
            <a:ext cx="604800" cy="9097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0"/>
          <a:stretch/>
        </p:blipFill>
        <p:spPr>
          <a:xfrm>
            <a:off x="3633840" y="3171960"/>
            <a:ext cx="838080" cy="10062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1"/>
          <a:stretch/>
        </p:blipFill>
        <p:spPr>
          <a:xfrm>
            <a:off x="4913280" y="3171960"/>
            <a:ext cx="838080" cy="10062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2"/>
          <a:stretch/>
        </p:blipFill>
        <p:spPr>
          <a:xfrm>
            <a:off x="2744640" y="3741840"/>
            <a:ext cx="636840" cy="636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3"/>
          <a:stretch/>
        </p:blipFill>
        <p:spPr>
          <a:xfrm>
            <a:off x="2197080" y="3463920"/>
            <a:ext cx="636480" cy="6364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4"/>
          <a:stretch/>
        </p:blipFill>
        <p:spPr>
          <a:xfrm>
            <a:off x="2706840" y="3144960"/>
            <a:ext cx="634680" cy="6364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5"/>
          <a:stretch/>
        </p:blipFill>
        <p:spPr>
          <a:xfrm>
            <a:off x="4811760" y="3481560"/>
            <a:ext cx="784080" cy="7873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6"/>
          <a:stretch/>
        </p:blipFill>
        <p:spPr>
          <a:xfrm>
            <a:off x="343080" y="3360600"/>
            <a:ext cx="838080" cy="10065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7"/>
          <a:stretch/>
        </p:blipFill>
        <p:spPr>
          <a:xfrm>
            <a:off x="762120" y="4003560"/>
            <a:ext cx="838080" cy="10065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8"/>
          <a:stretch/>
        </p:blipFill>
        <p:spPr>
          <a:xfrm>
            <a:off x="444600" y="1727280"/>
            <a:ext cx="720720" cy="10843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9"/>
          <a:stretch/>
        </p:blipFill>
        <p:spPr>
          <a:xfrm>
            <a:off x="944640" y="2550960"/>
            <a:ext cx="446040" cy="7048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135160" y="4008600"/>
            <a:ext cx="1560600" cy="7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Data Transformation (ET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600360" y="3449520"/>
            <a:ext cx="81432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DW, O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98720" y="4741920"/>
            <a:ext cx="28875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 Narrow"/>
              </a:rPr>
              <a:t>Analytic Plat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33760" y="4216320"/>
            <a:ext cx="144468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Data Analysis (OLAP, D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1463760"/>
            <a:ext cx="67464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OL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9680" y="3718080"/>
            <a:ext cx="67464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R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90560" y="4427640"/>
            <a:ext cx="67464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L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11320" y="3505320"/>
            <a:ext cx="67464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01600" y="5180040"/>
            <a:ext cx="8767800" cy="1220760"/>
            <a:chOff x="201600" y="5180040"/>
            <a:chExt cx="8767800" cy="1220760"/>
          </a:xfrm>
        </p:grpSpPr>
        <p:sp>
          <p:nvSpPr>
            <p:cNvPr id="134" name=""/>
            <p:cNvSpPr/>
            <p:nvPr/>
          </p:nvSpPr>
          <p:spPr>
            <a:xfrm>
              <a:off x="201600" y="5180040"/>
              <a:ext cx="8767800" cy="122076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75294"/>
                  </a:srgbClr>
                </a:gs>
                <a:gs pos="50000">
                  <a:srgbClr val="000000">
                    <a:alpha val="75294"/>
                  </a:srgbClr>
                </a:gs>
                <a:gs pos="100000">
                  <a:srgbClr val="000000">
                    <a:alpha val="75294"/>
                  </a:srgbClr>
                </a:gs>
              </a:gsLst>
              <a:lin ang="13500000"/>
            </a:gradFill>
            <a:ln w="9360">
              <a:solidFill>
                <a:srgbClr val="9999ff"/>
              </a:solidFill>
              <a:miter/>
            </a:ln>
            <a:effectLst>
              <a:outerShdw dist="17819" dir="2700000" blurRad="0" rotWithShape="0">
                <a:srgbClr val="080604">
                  <a:alpha val="2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5" name="" descr=""/>
            <p:cNvPicPr/>
            <p:nvPr/>
          </p:nvPicPr>
          <p:blipFill>
            <a:blip r:embed="rId20"/>
            <a:stretch/>
          </p:blipFill>
          <p:spPr>
            <a:xfrm>
              <a:off x="544680" y="5816520"/>
              <a:ext cx="3821040" cy="53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21"/>
            <a:stretch/>
          </p:blipFill>
          <p:spPr>
            <a:xfrm>
              <a:off x="4776840" y="5816520"/>
              <a:ext cx="3821040" cy="5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786960" y="5889600"/>
              <a:ext cx="333828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BI Development and Management Too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365800" y="5889600"/>
              <a:ext cx="264348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SQL Server Management Too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25480" y="5227560"/>
              <a:ext cx="569124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99"/>
                  </a:solidFill>
                  <a:latin typeface="Arial Narrow"/>
                </a:rPr>
                <a:t>.NET Framework (IIS, ASP, Net, CLR) and SQL Server (Relational, Multidimensional, XM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700600" y="3195720"/>
            <a:ext cx="1471680" cy="706320"/>
            <a:chOff x="5700600" y="3195720"/>
            <a:chExt cx="1471680" cy="706320"/>
          </a:xfrm>
        </p:grpSpPr>
        <p:pic>
          <p:nvPicPr>
            <p:cNvPr id="141" name="" descr=""/>
            <p:cNvPicPr/>
            <p:nvPr/>
          </p:nvPicPr>
          <p:blipFill>
            <a:blip r:embed="rId22"/>
            <a:stretch/>
          </p:blipFill>
          <p:spPr>
            <a:xfrm>
              <a:off x="5850000" y="3195720"/>
              <a:ext cx="1222200" cy="70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5700600" y="3267000"/>
              <a:ext cx="147168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Query and Repor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3" name="" descr=""/>
          <p:cNvPicPr/>
          <p:nvPr/>
        </p:nvPicPr>
        <p:blipFill>
          <a:blip r:embed="rId23"/>
          <a:stretch/>
        </p:blipFill>
        <p:spPr>
          <a:xfrm>
            <a:off x="1646280" y="3665520"/>
            <a:ext cx="619200" cy="5112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4"/>
          <a:stretch/>
        </p:blipFill>
        <p:spPr>
          <a:xfrm>
            <a:off x="3022560" y="3665520"/>
            <a:ext cx="619200" cy="511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5"/>
          <a:stretch/>
        </p:blipFill>
        <p:spPr>
          <a:xfrm>
            <a:off x="4191120" y="3665520"/>
            <a:ext cx="617400" cy="511200"/>
          </a:xfrm>
          <a:prstGeom prst="rect">
            <a:avLst/>
          </a:prstGeom>
          <a:ln w="0">
            <a:noFill/>
          </a:ln>
        </p:spPr>
      </p:pic>
      <p:grpSp>
        <p:nvGrpSpPr>
          <p:cNvPr id="146" name=""/>
          <p:cNvGrpSpPr/>
          <p:nvPr/>
        </p:nvGrpSpPr>
        <p:grpSpPr>
          <a:xfrm>
            <a:off x="5413320" y="3665520"/>
            <a:ext cx="1773360" cy="977400"/>
            <a:chOff x="5413320" y="3665520"/>
            <a:chExt cx="1773360" cy="977400"/>
          </a:xfrm>
        </p:grpSpPr>
        <p:pic>
          <p:nvPicPr>
            <p:cNvPr id="147" name="" descr=""/>
            <p:cNvPicPr/>
            <p:nvPr/>
          </p:nvPicPr>
          <p:blipFill>
            <a:blip r:embed="rId26"/>
            <a:stretch/>
          </p:blipFill>
          <p:spPr>
            <a:xfrm>
              <a:off x="5850000" y="3936600"/>
              <a:ext cx="1222200" cy="70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5715000" y="4008240"/>
              <a:ext cx="147168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Analytical Compon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9" name="" descr=""/>
            <p:cNvPicPr/>
            <p:nvPr/>
          </p:nvPicPr>
          <p:blipFill>
            <a:blip r:embed="rId27"/>
            <a:stretch/>
          </p:blipFill>
          <p:spPr>
            <a:xfrm>
              <a:off x="5413320" y="3665520"/>
              <a:ext cx="617760" cy="510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0" name=""/>
          <p:cNvGrpSpPr/>
          <p:nvPr/>
        </p:nvGrpSpPr>
        <p:grpSpPr>
          <a:xfrm>
            <a:off x="7505640" y="4046400"/>
            <a:ext cx="1128600" cy="952200"/>
            <a:chOff x="7505640" y="4046400"/>
            <a:chExt cx="1128600" cy="952200"/>
          </a:xfrm>
        </p:grpSpPr>
        <p:sp>
          <p:nvSpPr>
            <p:cNvPr id="151" name=""/>
            <p:cNvSpPr/>
            <p:nvPr/>
          </p:nvSpPr>
          <p:spPr>
            <a:xfrm>
              <a:off x="7784640" y="4046400"/>
              <a:ext cx="656280" cy="24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Devic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2" name="" descr=""/>
            <p:cNvPicPr/>
            <p:nvPr/>
          </p:nvPicPr>
          <p:blipFill>
            <a:blip r:embed="rId28"/>
            <a:stretch/>
          </p:blipFill>
          <p:spPr>
            <a:xfrm>
              <a:off x="7505640" y="4352760"/>
              <a:ext cx="219240" cy="51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" descr=""/>
            <p:cNvPicPr/>
            <p:nvPr/>
          </p:nvPicPr>
          <p:blipFill>
            <a:blip r:embed="rId29"/>
            <a:stretch/>
          </p:blipFill>
          <p:spPr>
            <a:xfrm>
              <a:off x="8362800" y="4390920"/>
              <a:ext cx="271440" cy="51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" descr=""/>
            <p:cNvPicPr/>
            <p:nvPr/>
          </p:nvPicPr>
          <p:blipFill>
            <a:blip r:embed="rId30"/>
            <a:stretch/>
          </p:blipFill>
          <p:spPr>
            <a:xfrm>
              <a:off x="7772400" y="4314600"/>
              <a:ext cx="585720" cy="68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5" name=""/>
          <p:cNvGrpSpPr/>
          <p:nvPr/>
        </p:nvGrpSpPr>
        <p:grpSpPr>
          <a:xfrm>
            <a:off x="1685880" y="1434960"/>
            <a:ext cx="5786640" cy="1820880"/>
            <a:chOff x="1685880" y="1434960"/>
            <a:chExt cx="5786640" cy="1820880"/>
          </a:xfrm>
        </p:grpSpPr>
        <p:sp>
          <p:nvSpPr>
            <p:cNvPr id="156" name=""/>
            <p:cNvSpPr/>
            <p:nvPr/>
          </p:nvSpPr>
          <p:spPr>
            <a:xfrm>
              <a:off x="2046240" y="1434960"/>
              <a:ext cx="5065920" cy="146196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75294"/>
                  </a:srgbClr>
                </a:gs>
                <a:gs pos="50000">
                  <a:srgbClr val="000000">
                    <a:alpha val="75294"/>
                  </a:srgbClr>
                </a:gs>
                <a:gs pos="100000">
                  <a:srgbClr val="000000">
                    <a:alpha val="75294"/>
                  </a:srgbClr>
                </a:gs>
              </a:gsLst>
              <a:lin ang="13500000"/>
            </a:gradFill>
            <a:ln w="9360">
              <a:solidFill>
                <a:srgbClr val="9999ff"/>
              </a:solidFill>
              <a:miter/>
            </a:ln>
            <a:effectLst>
              <a:outerShdw dist="17819" dir="2700000" blurRad="0" rotWithShape="0">
                <a:srgbClr val="080604">
                  <a:alpha val="2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7" name="" descr=""/>
            <p:cNvPicPr/>
            <p:nvPr/>
          </p:nvPicPr>
          <p:blipFill>
            <a:blip r:embed="rId31"/>
            <a:stretch/>
          </p:blipFill>
          <p:spPr>
            <a:xfrm>
              <a:off x="6227640" y="2550960"/>
              <a:ext cx="447840" cy="70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"/>
            <p:cNvPicPr/>
            <p:nvPr/>
          </p:nvPicPr>
          <p:blipFill>
            <a:blip r:embed="rId32"/>
            <a:stretch/>
          </p:blipFill>
          <p:spPr>
            <a:xfrm>
              <a:off x="4986360" y="2550960"/>
              <a:ext cx="446040" cy="70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"/>
            <p:cNvPicPr/>
            <p:nvPr/>
          </p:nvPicPr>
          <p:blipFill>
            <a:blip r:embed="rId33"/>
            <a:stretch/>
          </p:blipFill>
          <p:spPr>
            <a:xfrm>
              <a:off x="3745080" y="2550960"/>
              <a:ext cx="446040" cy="70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" descr=""/>
            <p:cNvPicPr/>
            <p:nvPr/>
          </p:nvPicPr>
          <p:blipFill>
            <a:blip r:embed="rId34"/>
            <a:stretch/>
          </p:blipFill>
          <p:spPr>
            <a:xfrm>
              <a:off x="2503440" y="2550960"/>
              <a:ext cx="446040" cy="70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3110040" y="1749240"/>
              <a:ext cx="292248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99"/>
                  </a:solidFill>
                  <a:latin typeface="Arial Narrow"/>
                </a:rPr>
                <a:t>Analytical Appl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2" name="" descr=""/>
            <p:cNvPicPr/>
            <p:nvPr/>
          </p:nvPicPr>
          <p:blipFill>
            <a:blip r:embed="rId35"/>
            <a:stretch/>
          </p:blipFill>
          <p:spPr>
            <a:xfrm>
              <a:off x="6853320" y="1877760"/>
              <a:ext cx="619200" cy="51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" descr=""/>
            <p:cNvPicPr/>
            <p:nvPr/>
          </p:nvPicPr>
          <p:blipFill>
            <a:blip r:embed="rId36"/>
            <a:stretch/>
          </p:blipFill>
          <p:spPr>
            <a:xfrm>
              <a:off x="1685880" y="1849320"/>
              <a:ext cx="704880" cy="446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Analysis Service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ne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ry response time – fastest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tical calculations – centrally mana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views – dimensions &amp; hierarch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Analysis Service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dimensional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gregat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ful calc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alized business meta-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0" y="103320"/>
            <a:ext cx="9144000" cy="66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20:58:43Z</dcterms:created>
  <dc:creator>administrator</dc:creator>
  <dc:description/>
  <dc:language>en-US</dc:language>
  <cp:lastModifiedBy>Chris Large</cp:lastModifiedBy>
  <dcterms:modified xsi:type="dcterms:W3CDTF">2004-03-16T21:10:28Z</dcterms:modified>
  <cp:revision>152</cp:revision>
  <dc:subject/>
  <dc:title>PowerPoint Presentation</dc:title>
</cp:coreProperties>
</file>